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A111-723A-421B-B68D-CDB444E14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0BF8-41C6-47AD-B8C8-B9BD6D0B8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0437-9081-45E3-BCBC-C8DA23A2A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DA9C-A873-478A-B7CE-9938F895E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C777-A41B-49DB-9604-4D46BFC1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D32B-E60D-42BE-81EA-89F60FB65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069B-0AC8-412C-9C42-11147F8CE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59C3-C3DC-439E-9EED-E7D83F60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A540-64CB-4777-B86A-4C2EAE5A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49FD-11BE-4C75-A173-495EE776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F425-9FF8-421C-A953-30F73873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B040-EC09-4EAA-BAAB-568229F7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8676-CECA-405D-A76D-B2306A77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5838-9C2D-4DD2-A282-22FC98FA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2E69-28E3-4A21-8BD7-FC8CFBC3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B3DA-B9BB-4667-84D5-69AA45A4F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Geetika Kum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3434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0" y="3581280"/>
            <a:ext cx="20574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 mis amigos! Me llamo Geetika. Yo vivo en Astoria, New York. Tengo catorce años. Me uno hermano, y se llama Tanish. Estoy gracioso, y jov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64508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79736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638680"/>
            <a:ext cx="543240" cy="7812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724280"/>
            <a:ext cx="439560" cy="62892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ias! ¿Tienes tare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uestro somos niñas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tardes! Arrepentido yo no responder. ¿Si yo tengo tarea, y tu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ias! ¿Tienes tare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Geetika Kum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6"/>
          <p:cNvSpPr/>
          <p:nvPr/>
        </p:nvSpPr>
        <p:spPr>
          <a:xfrm>
            <a:off x="152280" y="43434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7"/>
          <p:cNvSpPr/>
          <p:nvPr/>
        </p:nvSpPr>
        <p:spPr>
          <a:xfrm>
            <a:off x="0" y="3581280"/>
            <a:ext cx="20574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 mis amigos! Me llamo Geetika. Yo vivo en Astoria, New York. Tengo catorce años. Me uno hermano, y se llama Tanish. Estoy gracioso, y jov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64508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79736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638680"/>
            <a:ext cx="543240" cy="7812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724280"/>
            <a:ext cx="439560" cy="628920"/>
          </a:xfrm>
          <a:prstGeom prst="rect">
            <a:avLst/>
          </a:prstGeom>
          <a:ln w="0">
            <a:noFill/>
          </a:ln>
        </p:spPr>
      </p:pic>
      <p:sp>
        <p:nvSpPr>
          <p:cNvPr id="146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ias! ¿Tienes tare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uestro somos niñas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tardes! Arrepentido yo no responder. ¿por qué quienes helado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ias! ¿Tienes helado? Mi hermano y hermana quienes helad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5T18:27:33Z</dcterms:modified>
  <cp:revision>108</cp:revision>
  <dc:subject/>
  <dc:title>Profile</dc:title>
</cp:coreProperties>
</file>